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8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rial Fibrillatio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1001880" y="1798560"/>
            <a:ext cx="7699320" cy="29718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4320" y="49989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ource: EMEDU.ORG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rial Fibrill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may have palpitations, dyspnea, fatigue, lightheadedness or syn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the most common dysrhythmia that requires treat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it is associate with cardiovascular disease such as hypertension, coronary artery disease, valvular disease) but may be related to a supraventricular tachycardia (such as Wolff-Parkinson-Whi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may be related to excess alcohol intake, hyperthyroidism, pulmonary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6600" y="18745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in rapid atrial fibrillation with hemodynamic instability or ongoing cardiac ischemia should be cardioverted with synchronized, electrical cardioversion. Cardioversion most effective at 200 J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7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ho are stable and without ischemia, should be initially rate contro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7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control can be achieved with beta blockers or calcium-channel block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7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of agents may help maintain sinus rhythm (beta blockers, amiodarone, procainamide, flecainide, sotal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73000"/>
              </a:lnSpc>
              <a:spcAft>
                <a:spcPts val="8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8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 RL. Clinical practice: newly diagnosed atrial fibrillation. N Engl J Med 2004;361:2408-1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ntinalli JE et al. Emergency Medicine: A  comprehensive study guide.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d. New York, NY: McGraw-Hill;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8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8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is JT, Garmel GM. Clinical emergency medicine casebook. New York, NY: Cambridge University Press; 20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illary</dc:creator>
  <dc:description/>
  <dc:language>en-US</dc:language>
  <cp:lastModifiedBy>MEDDAC</cp:lastModifiedBy>
  <dcterms:modified xsi:type="dcterms:W3CDTF">2010-10-29T05:46:06Z</dcterms:modified>
  <cp:revision>9</cp:revision>
  <dc:subject/>
  <dc:title>INFECTIVE ENDOCARDITIS</dc:title>
</cp:coreProperties>
</file>